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F60C-5DEF-4466-A661-CB5A2DC67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0D63-467E-4339-94AB-D7892033C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A160-FCFF-45EC-88A8-A7E58A8D9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ED17-6D91-44B8-9E0D-B932555C7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4CC1-5608-48BA-A702-7DEE502FC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8937-F6E5-44A8-B868-DAF9FC631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B78E-5904-4249-B13E-3798140FB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F2B8-AFD0-44E2-ABC2-D59B209F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3825-316C-43DB-8AF4-5B5F36BDB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CA5E-8DA2-41FE-B64D-BD9EA911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5E72-AC2E-455A-81C2-D1973CFB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AEE6-A68A-4BBD-AB66-FF6A87EB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A4354-6718-45D7-94EE-AF2711C452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Matthew Guentz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Greek City-St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http://t2.gstatic.com/images?q=tbn:ANd9GcQPt4gthsLMTuT1uOKNLAg1UumPQsRQDBg9P_xzgE1gLRCBf6konw"/>
          <p:cNvPicPr/>
          <p:nvPr/>
        </p:nvPicPr>
        <p:blipFill>
          <a:blip r:embed="rId1"/>
          <a:stretch/>
        </p:blipFill>
        <p:spPr>
          <a:xfrm>
            <a:off x="0" y="2209680"/>
            <a:ext cx="9144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iloso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523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tudy of wisdom and the right way to l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5" descr="http://t0.gstatic.com/images?q=tbn:ANd9GcSZ-SrgrvVmGWLN01Ab-iuVfd0qIKdesJ_d6W-sajHQ5j-GISoGzw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ninsu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area of land nearly surrounded by w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5" descr="http://t3.gstatic.com/images?q=tbn:ANd9GcTItnzNcU7JUxbBzkmgn754nb_LPdssueWfNDD57N8eZs_rkWsp"/>
          <p:cNvPicPr/>
          <p:nvPr/>
        </p:nvPicPr>
        <p:blipFill>
          <a:blip r:embed="rId1"/>
          <a:stretch/>
        </p:blipFill>
        <p:spPr>
          <a:xfrm>
            <a:off x="0" y="2514600"/>
            <a:ext cx="9144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loponnesian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ar between Athens and Spar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5" descr="http://t2.gstatic.com/images?q=tbn:ANd9GcQQKhY5D_h5cdMqIBFQEChKiLWl604eWmQaK-eLN6NoXiQ8-D3R"/>
          <p:cNvPicPr/>
          <p:nvPr/>
        </p:nvPicPr>
        <p:blipFill>
          <a:blip r:embed="rId1"/>
          <a:stretch/>
        </p:blipFill>
        <p:spPr>
          <a:xfrm>
            <a:off x="0" y="2209680"/>
            <a:ext cx="9144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ig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kind of government that is run by a small group of peo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5" descr="http://t1.gstatic.com/images?q=tbn:ANd9GcTD-8uShODqs-6qAVblR7AHkZqCBJCQ7Xvi-Z3XGEaMxzOfoTNM"/>
          <p:cNvPicPr/>
          <p:nvPr/>
        </p:nvPicPr>
        <p:blipFill>
          <a:blip r:embed="rId1"/>
          <a:stretch/>
        </p:blipFill>
        <p:spPr>
          <a:xfrm>
            <a:off x="0" y="2819520"/>
            <a:ext cx="9144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bo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heltered place along a coast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1" descr="http://t1.gstatic.com/images?q=tbn:ANd9GcR0Wetj1NXzM43QTHkAbT_u7eFMpkTen006kL8R4fcePArCxyBM"/>
          <p:cNvPicPr/>
          <p:nvPr/>
        </p:nvPicPr>
        <p:blipFill>
          <a:blip r:embed="rId1"/>
          <a:stretch/>
        </p:blipFill>
        <p:spPr>
          <a:xfrm>
            <a:off x="0" y="2438280"/>
            <a:ext cx="91440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http://www.greece-athens.com/gallery_images/56.jpg"/>
          <p:cNvPicPr/>
          <p:nvPr/>
        </p:nvPicPr>
        <p:blipFill>
          <a:blip r:embed="rId1"/>
          <a:srcRect l="0" t="0" r="0" b="23196"/>
          <a:stretch/>
        </p:blipFill>
        <p:spPr>
          <a:xfrm>
            <a:off x="0" y="2112840"/>
            <a:ext cx="914400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lace where Greeks meet and conduct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Content Placeholder 4" descr="Agora.jpg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mb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awmaking place where people voted on issues that helped their 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Assembly.jpg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iz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599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erson who has certain rights and responsibilities to his or her coun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Citizen.jpg"/>
          <p:cNvPicPr/>
          <p:nvPr/>
        </p:nvPicPr>
        <p:blipFill>
          <a:blip r:embed="rId1"/>
          <a:stretch/>
        </p:blipFill>
        <p:spPr>
          <a:xfrm>
            <a:off x="1143000" y="2819520"/>
            <a:ext cx="60199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5998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group of people who lived apart from Greece but kept economic ties with 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http://t0.gstatic.com/images?q=tbn:ANd9GcRoh9VkNaevNVVhtKU32GO5GIKrs7vnsHjsYV5P2gxqJ-ZxgFG7"/>
          <p:cNvPicPr/>
          <p:nvPr/>
        </p:nvPicPr>
        <p:blipFill>
          <a:blip r:embed="rId1"/>
          <a:stretch/>
        </p:blipFill>
        <p:spPr>
          <a:xfrm>
            <a:off x="0" y="2819520"/>
            <a:ext cx="9144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oc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orm of government where people vote to make deci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t2.gstatic.com/images?q=tbn:ANd9GcRqL9xUWRaIjoMUMoAQtdiagra-IdNJE4yBTTqZBZGXyt7zVzrV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599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hear evidence and make decisions in court of la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0" descr="http://t2.gstatic.com/images?q=tbn:ANd9GcRhVUrVEvkLs7bgbpT6FLPQBi3b-jh8a1o6v6clorQGycfaa4MgDw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vernment headed by one ru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http://t2.gstatic.com/images?q=tbn:ANd9GcSdl6TDudjXMBzT5laLLCBYEw_qMoynvlITsQOs6H60U9Fi9EQV"/>
          <p:cNvPicPr/>
          <p:nvPr/>
        </p:nvPicPr>
        <p:blipFill>
          <a:blip r:embed="rId1"/>
          <a:stretch/>
        </p:blipFill>
        <p:spPr>
          <a:xfrm>
            <a:off x="0" y="2438280"/>
            <a:ext cx="91440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poweruser</cp:lastModifiedBy>
  <dcterms:modified xsi:type="dcterms:W3CDTF">2012-03-09T16:46:59Z</dcterms:modified>
  <cp:revision>147</cp:revision>
  <dc:subject/>
  <dc:title>Ancient Greece</dc:title>
</cp:coreProperties>
</file>